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FABA-A238-4BEC-BDE2-8D0EEA090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63A0-75B2-44AD-838F-DC4768A73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6D4BDA-C145-42E4-B2BD-6A07CFF1E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744E89-AA35-4D9E-8153-BA2ECE90F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E12EC1-BE77-4745-9211-1E2338C71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4E8FD4-DE7A-4A3A-81E5-962184A9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0B12FF-7421-489F-90C2-75408334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6982CB-BB49-4C0A-9CB1-73B5EE8D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3BCD3D-5EC0-4240-8B1E-6EEF85F1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3081AD-1F6F-46E5-97C5-7F90B1F29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9689A1-1E81-4F89-9B1D-60920BE32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E76EA1-CDCA-48D0-BE96-B85F54FCE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9AFE-F02C-4CC7-8B8D-A34838E4B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A85B29-DA54-4960-AC31-B1B76FA37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1A2F84-8401-4E78-8D86-2AF7F7AD0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5D7202-D87C-44DC-BBA7-178639AD6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4B8ADC-E79B-4D4E-93BE-3C04E62FC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D0EB3C-9363-46E4-8C8D-B82145769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97A477-804E-46EC-8D4F-5BAE83DC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28DAE7-D1E5-4CE8-8D12-55C8242F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1394A2-825A-493A-9FB7-CCE02F59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20F114-8909-4AD6-814D-B07CA9300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9F5854-F024-4ED4-80CF-D8A9EB378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D31F-7078-443B-98DA-824594196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DCED9A-0206-4526-861F-17A4D2DF8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485B38-5FA1-4A29-A402-BD92D7616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958780-8029-4F7A-B40C-C8913FC49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7BBD86-49CF-42E7-B69E-4AF390042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0C351E-2737-4503-808A-1818F7EA4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54D077-FFD3-4AC2-BC71-808C42693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826ECD-76D5-4998-ACE3-771EA5A45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A594DC-9A13-486D-803D-497668D0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E87CF6-9F7C-4E72-8E59-C4D38897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9C8044-9E8A-49BF-AAAB-BEA084C0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BD3A6-98F6-4513-A834-882E12BF5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E6790A-0A32-4644-88AD-D2F890D9F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0069DD-B757-49A9-A4BA-BE957C4E9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043420-F81C-47C9-8E4B-DB5071E39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0C83D5-8F75-42FB-876E-94C0FD766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283AA8-816A-41D1-8279-80FA5608E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CFC798-E1C6-42DA-9511-3B861860C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5631B3-4781-4885-9A0F-27FE2778A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EC8E0F-B08E-413A-9715-98AF3DBA3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5EA026-E323-4FAE-952A-23C710921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101926-AA1B-4532-967D-210724CC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856E2-715B-454F-9997-C8227388D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92094F-7773-4886-A63B-E9B25EB1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084CFD-4A4A-463F-99B5-030D8411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077020-54A9-45DA-9213-7C5C2A451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7AC097-49FA-4D2D-895C-508D717DC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AB4BE6-75FE-48A5-BB2A-54279A1B5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116FD-151A-48B7-AE62-1796D6485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E7A1E-E7F5-41D7-B429-C5C228196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43782-A46D-40D5-985C-D88795751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09F9C-79BF-4A77-B6A9-CB48BCA52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3E70A-BE49-46FE-A28F-75C294D9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6F51-7CE0-4D93-AB4F-3A30A174E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3F2D4-42C3-4728-9D1D-F13C4965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09B05-F317-4A77-A58F-56BF4828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F53BE-57F8-4DD7-83FB-2AB87A1A8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719D4-1A7D-4E1A-950D-EC5EAA499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5F3B5-09BA-4988-A5F1-2979DCE31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F629C-CF36-43FB-B008-73C8502D1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ECB62-6EFC-44AF-A689-D842FDF61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98743-3468-4F0A-BB6B-984C62028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1C4FD-9A70-48F7-8DD4-E70ECD9E7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125AA-91B4-4EDD-A22E-590A1B5EA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A11D-2E0B-4DFA-968F-F6E74622D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52FD8-E86D-4E8A-B64D-92375D78B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8C191-8590-40DD-B4D4-44EC3155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70888-0D80-4AD4-99C9-F9831DD5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546E7-A67F-4DEE-85A6-876A019C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E37E4-8A9D-40A1-BF57-9B3E823A0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61622-9960-4D7E-ACD2-4BA58FD4C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6250B-A71D-4EF3-BF38-C215D3D58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5489A-72D3-4A7D-96EF-E60F33BEF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4A05B-152F-4C5B-BE46-431BA721B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46849-904C-461D-90FE-0C80E1659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3327-6E69-4F5B-A151-4B52D3E52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B8F1A-7B47-4FD2-9DE6-5CE08AD63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1029A-BBAE-4FD0-865A-11B20FA17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800F7-738C-4F23-A92D-DA4078850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E0AD4-11ED-4FDC-90E8-B43D481B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408FC-5AEE-4BFF-B99B-FE097035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0BECA-9F6F-46CD-ACE5-AF269AEF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F59DE-2409-4E02-A302-7F29CC6E1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0221D-975D-467E-A3B2-0B4D53906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78A92-5451-4CC1-80FC-6C4742BBF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361C1-ED5B-4402-B90E-AF338906A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94B9-C4A1-452D-871F-686988091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DD3C2-CCDF-4DDF-9C18-E2332108D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81869-8BDA-4E1D-8E3E-4E6E15BDF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FE57E-AD59-43CB-9AF6-EF4C11C2A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CFE75-A926-44D9-BF4A-92714D886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64A2D-555B-4B60-B902-841BA3BC8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2F3C3-B641-4822-A97E-5006716E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5C2DD-04A4-47BF-AE84-EBA18A71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DCCD2-925A-4B3D-B423-41350057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ED6FC-AEAA-4D64-B580-259E77472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39875-B313-4EB4-8DDC-10E9CDC0B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E8D7-7EA0-4023-8D33-18D96C37A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BB71E-41E5-49F4-81CD-83B9CC0BF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05E46-D106-4F0D-A561-06030C8AB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29C8F-8320-479C-A0DC-8BC7A1966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555E90-CDD4-4C3C-9D83-BFCED19FC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E0DC0-E520-4681-AFC9-FF6879219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7DC17-9BA6-4EAC-A270-97D8D7F73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4BD27-1FD8-4347-9EF6-271A3B619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4F843-D157-4E99-B0E1-08D52896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F78BE-EB37-4EA6-8A7A-C896C521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2B905-A3A2-4433-A77A-4EA50A49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4453-77C7-4582-879F-CEBDB3C4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277C4-1410-4E1C-AD77-EDEF92138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69FB1C-8906-4966-A18A-FAD074080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80A31-8C92-48E1-A742-950F0670D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96FD1-ECAC-402C-B3FA-B57DB136A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50EED-03ED-4727-A074-E8D8E1857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BBF2E-ADE6-498F-A8EA-C432FFD0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594D2F-0B80-44C3-86D4-04B860699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E15204-A644-4BB0-8562-A385ABCAC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E3B3D-E655-4DFD-9BC1-967CA6EA3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03AAC9-8D55-4EB8-B1F3-17EF6445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B84C-6145-4FAC-BDCA-1D1E605A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BAD87-6CA1-4552-B9EE-6783E0A2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5F275-DE17-49D9-BCD4-47D62B57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993B9-AD87-4B45-A374-7BDB768C3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60C2C9-FC7A-48FE-9FAD-49A06ECCB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CE4FE8-AF14-43B5-B5B4-4956CD3DE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EBFB5F-60CC-4F4C-AA97-34AB94AE0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F5107D-6815-427F-B930-4638E5CEE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C209FB-7128-4361-916D-DB5FF1319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A85D94-8A50-4FFE-80DE-979B7F6C6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ED8CE0-C5E1-4E51-BB3E-D64F3B560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CA5C-0DB8-4F78-8169-D6EAF8AD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7835F7-AB5C-4E7A-9562-A4A853F7F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6A8C17-C4D4-474B-AC03-04714F9F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A37032-0508-42FF-BFBD-F70E46A9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C75D7-E90A-4CB4-8775-3FBB0322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7FD78A-9F38-4407-AAAA-15A692DD2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026EA9-A251-4B6E-90C9-81A91D2E1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7065A2-4C12-49E4-BB66-F6E27B4A8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43901A-A7EB-48AF-AA62-A796AD3DE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481881-0A71-41FA-AA6A-6F8CA80BD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91C1C8-A272-49D1-89E0-536403615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41915-C77E-4816-9179-E7977F20D1C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9F770-1FBE-401D-94D5-E6E1CC36365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27BFC-BA33-4E2C-B4FD-670E2513B8F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F0A59-3574-4353-B8A0-E5226BA6BCD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0CD64-B120-41F7-AD7E-F2420A7A256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7BA90-6F03-4CC2-9BA8-FD9DF5842DB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EFC5E-6C10-4AEF-9D69-87C6C6D2F32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DA768-345F-4090-BE7E-A106907095E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80170-74AD-4983-9AF6-3988207F1E5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E6AE4-473A-4205-9494-6D71DBB9A85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EDC96-9DB6-43C0-AA50-B511CECB53B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ACD36-6794-4A70-AFBA-91953D3B53B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74 Tvoj návrat, Pane ná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voj návrat, Pane ná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y s túžbou čakám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u, v žiaľnom sveta údol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k tebe vzhliada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i ešte dlho hriech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u bude panovať?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š drahý Pane, príď už, príď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i verných domov vzi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vár tvoju uvidie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uť lásky tvojej hlas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bývať s tebou navek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 túžbou všetkých n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íď, drahý Pane ná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em neprestáva lk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ám krásu, ktorú stratil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j, prosíme, zas vráť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2T16:39:31Z</dcterms:created>
  <dc:creator>MD</dc:creator>
  <dc:description/>
  <dc:language>en-US</dc:language>
  <cp:lastModifiedBy>DUMAS Ing. Dušan Bielik</cp:lastModifiedBy>
  <dcterms:modified xsi:type="dcterms:W3CDTF">2025-01-06T18:35:27Z</dcterms:modified>
  <cp:revision>6</cp:revision>
  <dc:subject/>
  <dc:title>Bez nadpisu</dc:title>
</cp:coreProperties>
</file>